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4572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177-09E6-426A-AA40-C5763C8F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497-66A5-4548-B11D-FF705C4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DB0-5B9C-42C0-9C78-8EA5E06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13208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2753640"/>
            <a:ext cx="12510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9134-EFDB-43EB-9095-34AAD55E4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5F9-2BA0-4B94-9974-3EAD878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6A52-1323-41EC-AC99-FB066417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221-32EC-4516-9BDA-FFCB7F7C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EB1-A8AC-4B8D-B8AC-BEF88FA5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406080"/>
            <a:ext cx="388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E9CF-8F90-4BF7-8545-0F297E10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3DC-F56E-4D0E-A59A-E1602C8A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27536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75E-9CBF-4B72-A9A2-F0CC7633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1320840"/>
            <a:ext cx="189612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2753640"/>
            <a:ext cx="3886200" cy="130824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DC8-E0E6-4960-B006-76F584BA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40608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320840"/>
            <a:ext cx="3886200" cy="274320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rmAutofit/>
          </a:bodyPr>
          <a:p>
            <a:pPr marL="195120" indent="-1951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23720" indent="-161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320" indent="-1299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914400" indent="-130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176480" indent="-13176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4165200"/>
            <a:ext cx="95220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416520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4165200"/>
            <a:ext cx="952560" cy="304920"/>
          </a:xfrm>
          <a:prstGeom prst="rect">
            <a:avLst/>
          </a:prstGeom>
          <a:noFill/>
          <a:ln w="0">
            <a:noFill/>
          </a:ln>
        </p:spPr>
        <p:txBody>
          <a:bodyPr lIns="52200" rIns="52200" tIns="26280" bIns="26280" anchor="t">
            <a:noAutofit/>
          </a:bodyPr>
          <a:lstStyle>
            <a:lvl1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22360"/>
                <a:tab algn="l" pos="104472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</a:tabLst>
            </a:pPr>
            <a:fld id="{26A3C39B-1CEF-4178-A95B-4708D01A46E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8600"/>
            <a:ext cx="4572000" cy="43434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533520"/>
            <a:ext cx="457200" cy="2438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533520"/>
            <a:ext cx="457200" cy="2438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33520"/>
            <a:ext cx="457200" cy="2438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" y="3200400"/>
            <a:ext cx="152280" cy="762120"/>
            <a:chOff x="685800" y="3200400"/>
            <a:chExt cx="152280" cy="762120"/>
          </a:xfrm>
        </p:grpSpPr>
        <p:sp>
          <p:nvSpPr>
            <p:cNvPr id="47" name=""/>
            <p:cNvSpPr/>
            <p:nvPr/>
          </p:nvSpPr>
          <p:spPr>
            <a:xfrm>
              <a:off x="685800" y="3200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3505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5800" y="38098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133720" y="3200400"/>
            <a:ext cx="152280" cy="762120"/>
            <a:chOff x="2133720" y="3200400"/>
            <a:chExt cx="152280" cy="762120"/>
          </a:xfrm>
        </p:grpSpPr>
        <p:sp>
          <p:nvSpPr>
            <p:cNvPr id="51" name=""/>
            <p:cNvSpPr/>
            <p:nvPr/>
          </p:nvSpPr>
          <p:spPr>
            <a:xfrm>
              <a:off x="2133720" y="3200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3505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720" y="38098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581280" y="3200400"/>
            <a:ext cx="152280" cy="762120"/>
            <a:chOff x="3581280" y="3200400"/>
            <a:chExt cx="152280" cy="762120"/>
          </a:xfrm>
        </p:grpSpPr>
        <p:sp>
          <p:nvSpPr>
            <p:cNvPr id="55" name=""/>
            <p:cNvSpPr/>
            <p:nvPr/>
          </p:nvSpPr>
          <p:spPr>
            <a:xfrm>
              <a:off x="3581280" y="320040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35053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81280" y="3809880"/>
              <a:ext cx="152280" cy="152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1T19:31:37Z</dcterms:created>
  <dc:creator>shelly</dc:creator>
  <dc:description/>
  <dc:language>en-US</dc:language>
  <cp:lastModifiedBy>shelly</cp:lastModifiedBy>
  <dcterms:modified xsi:type="dcterms:W3CDTF">2004-02-01T19:34:00Z</dcterms:modified>
  <cp:revision>1</cp:revision>
  <dc:subject/>
  <dc:title>PowerPoint Presentation</dc:title>
</cp:coreProperties>
</file>